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93415-BA46-4A6D-991D-53A48D7276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0880" y="439524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478FF-0933-4DEB-9F01-9B58039973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604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AFDDA-BC64-4675-92F5-9B579B35E3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516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4944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8088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516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4944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58363-F539-4AC9-9B3F-BB42949A25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0880" y="22860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80880" y="83772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80880" y="22860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C867F-FA58-4442-A764-F67A0BA8A1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04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0880" y="439524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04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516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4944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088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516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4944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099CE-D0B5-4D28-A638-C8DE351F9E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B412D-B2D1-4E8E-9E56-A38F68EA57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B3009-56ED-418D-AA1C-ECC4357435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83772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C9886-6A98-4E59-B212-DC8167B9E0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D611F-9C22-49C0-98A7-60025E06B6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604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C3A68-18D8-4B8C-B114-8EA02A2EB9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97B3F-FB85-4435-BB45-6A9ED2DDAC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7262" t="6352" r="10487" b="3395"/>
          <a:stretch/>
        </p:blipFill>
        <p:spPr>
          <a:xfrm>
            <a:off x="685800" y="1219320"/>
            <a:ext cx="7772400" cy="54100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rcRect l="0" t="0" r="0" b="54366"/>
          <a:stretch/>
        </p:blipFill>
        <p:spPr>
          <a:xfrm>
            <a:off x="2495520" y="434880"/>
            <a:ext cx="6191280" cy="40320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668160" y="284040"/>
            <a:ext cx="1541520" cy="47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22860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752480"/>
            <a:ext cx="8226360" cy="0"/>
          </a:xfrm>
          <a:prstGeom prst="line">
            <a:avLst/>
          </a:prstGeom>
          <a:ln w="38160">
            <a:solidFill>
              <a:srgbClr val="ff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47712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 OCP-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B696B-533A-44D6-B03B-16E2B018394D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rcRect l="0" t="5707" r="0" b="0"/>
          <a:stretch/>
        </p:blipFill>
        <p:spPr>
          <a:xfrm>
            <a:off x="457200" y="2209680"/>
            <a:ext cx="8305920" cy="4267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7200" y="2038320"/>
            <a:ext cx="8318520" cy="182520"/>
          </a:xfrm>
          <a:prstGeom prst="rect">
            <a:avLst/>
          </a:prstGeom>
          <a:solidFill>
            <a:srgbClr val="ff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33520" y="380880"/>
            <a:ext cx="2889000" cy="893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rcRect l="0" t="0" r="0" b="76113"/>
          <a:stretch/>
        </p:blipFill>
        <p:spPr>
          <a:xfrm>
            <a:off x="609480" y="1676520"/>
            <a:ext cx="8247240" cy="2808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35049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6629400"/>
            <a:ext cx="838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OCP-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OCP-IP SLD WG Outp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1911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542200" y="1884240"/>
            <a:ext cx="3165120" cy="1031400"/>
          </a:xfrm>
          <a:prstGeom prst="rect">
            <a:avLst/>
          </a:prstGeom>
          <a:solidFill>
            <a:srgbClr val="ffff00"/>
          </a:solidFill>
          <a:ln w="57240">
            <a:solidFill>
              <a:srgbClr val="ffff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Regular Releas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Features constantly add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Backward compatibility maintain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Support for OCP-IP deliver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Already planning future releas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0512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9112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2448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19920" y="44197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8620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46280" y="544356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5334120"/>
            <a:ext cx="93024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uly 2003: 1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4267080"/>
            <a:ext cx="75960" cy="106704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95280" y="4267080"/>
            <a:ext cx="304920" cy="12193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5562720"/>
            <a:ext cx="93024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pt 2003: 1.1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2895480"/>
            <a:ext cx="761760" cy="12193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2362320"/>
            <a:ext cx="123480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c 2003: OCP 2.0 Suppor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057040" y="2971800"/>
            <a:ext cx="228600" cy="114300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752480" y="2057400"/>
            <a:ext cx="1143000" cy="5961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eb 2004: 2.01 &amp; Adapters Introduc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4267080"/>
            <a:ext cx="304920" cy="16765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62320" y="6019920"/>
            <a:ext cx="93024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eb 2004: 2.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00400" y="4267080"/>
            <a:ext cx="152280" cy="7621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95480" y="5105520"/>
            <a:ext cx="930240" cy="5961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ug 2004: Monitors Introduc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95680" y="4267080"/>
            <a:ext cx="228600" cy="137160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67080" y="5715000"/>
            <a:ext cx="930240" cy="5961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eb 2005: OCP 2.1 Suppor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3504960" y="3276720"/>
            <a:ext cx="75960" cy="91440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8120" y="2743200"/>
            <a:ext cx="93024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t 2004: 2.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2666880"/>
            <a:ext cx="990720" cy="14479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52680" y="1981080"/>
            <a:ext cx="1828800" cy="5961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uly 2005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P 2.1.1 &amp; Example Package Releas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86400" y="5791320"/>
            <a:ext cx="1295280" cy="7635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rch 2006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P 2.1.2 &amp; TL3 Channel Introduc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6171840" y="4267080"/>
            <a:ext cx="609480" cy="14479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867280" y="3124080"/>
            <a:ext cx="114300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pril 2006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P 2.1.2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477120" y="3581280"/>
            <a:ext cx="380880" cy="5335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05720" y="5105520"/>
            <a:ext cx="1143000" cy="5961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y 2006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heckers Introduc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010280" y="4267080"/>
            <a:ext cx="228600" cy="7621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162920" y="3276720"/>
            <a:ext cx="121896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t 2006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P 2.1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772400" y="3733920"/>
            <a:ext cx="152280" cy="38088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F7DF1-C72D-4FEE-AA7E-FCD5FBBCD004}" type="slidenum">
              <a:t>1</a:t>
            </a:fld>
          </a:p>
        </p:txBody>
      </p:sp>
    </p:spTree>
  </p:cSld>
  <p:transition spd="med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2T18:53:25Z</dcterms:created>
  <dc:creator>OCP-IP Administration</dc:creator>
  <dc:description/>
  <dc:language>en-US</dc:language>
  <cp:lastModifiedBy>aluukinen</cp:lastModifiedBy>
  <dcterms:modified xsi:type="dcterms:W3CDTF">2006-10-31T18:52:52Z</dcterms:modified>
  <cp:revision>168</cp:revision>
  <dc:subject/>
  <dc:title>OCP-IP Introductory Presentation</dc:title>
</cp:coreProperties>
</file>